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BEB2-BE51-4BA0-B2DA-85D16DC6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EA18-D9EE-487D-9BB7-8B56B900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A200-50CD-4717-A4EC-8DCF4749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6F7B-2C79-4B57-A0E2-E772057F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DA92-7652-4C5E-9D49-4BD8000A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7CCB-4F0B-46A1-B291-9C609CDA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CE5A-97A6-4611-8307-E89B0CBD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F1D3-6838-4F0A-B0BE-03930964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3F3D-8E99-4A07-B321-5163DFD4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0A60-1C01-4580-AF51-35C3E657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0748-59BD-41DC-AD24-A24E9EC1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21C7-9FC1-48B3-A93B-520024B3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A2E3-7B9B-459E-87C5-A1ED141E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33F2-DC07-438E-B158-025765DD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D1AF-5D96-43D0-A831-954A0102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7EA3-95D6-40D2-8C99-4901533B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3FD4-96CC-439B-944C-61C46337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15CA-979E-4D53-8051-C55FD1DD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9371-CFB9-4393-B24B-1FF29E9A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5285-4DBB-428C-896E-1F8EFC62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9F0-8252-4484-8686-B1362A78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553B-0587-4631-81D5-4F63F6ED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0B37-2C7B-4DAE-BD1C-42AF841A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0A07-6BDA-458A-9E70-16B9A5ED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663D-CE32-4835-A667-5AD2B6D2C8C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5668-7A4A-4DEE-8399-109D27DF8D7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02600" y="4149360"/>
            <a:ext cx="698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95280" y="4365720"/>
            <a:ext cx="8424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Monotype Corsiva"/>
              </a:rPr>
              <a:t>Здоровье и курени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333360"/>
            <a:ext cx="7201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Табак приносит вред телу,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разрушает разум,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отупляет целые н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 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Оноре де Бальз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Легкие курильщик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99640" y="1915920"/>
            <a:ext cx="47293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Проведенные исследования показали, что у людей, постоянно вдыхающих дым сигарет, клетки слизистой оболочки бронхов и желудка подвергаются грубым изменениям своей внутренней структуры. Клетки начинают дряхлеть, а это одно из первых изменений на пути к образованию раковой опухоли.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2069" t="13089" r="49816" b="35353"/>
          <a:stretch/>
        </p:blipFill>
        <p:spPr>
          <a:xfrm>
            <a:off x="6156360" y="1844640"/>
            <a:ext cx="2171520" cy="19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2646" t="2370" r="4211" b="5238"/>
          <a:stretch/>
        </p:blipFill>
        <p:spPr>
          <a:xfrm>
            <a:off x="6156360" y="4292640"/>
            <a:ext cx="2038320" cy="1981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084720" y="6308640"/>
            <a:ext cx="281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Легкие не  куряще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00720" y="386064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Легкие куряще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995640" y="980640"/>
            <a:ext cx="4897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гативы легких, полученные с помощью рентгеновского аппарата, у курильщика с многолетним стажем и у некурящего - совершенно разны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 курильщика хорошо заметно, как губчатая ткань легких забита инородными частицами, которые и способствуют образованию раковых опухолей - развитию туберкулеза легких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3695400" cy="3765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9280" y="537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ентгеновский снимок легких куряще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Табачный   дым 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32000" y="1981080"/>
            <a:ext cx="7278480" cy="38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    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гарный газ опасен для жизни: проходя через легкие, он всасывается в кровь, затем вступает в реакцию с гемоглобином – пигментом красных кровяных телец, который снабжает организм кислородом. Как только угарный газ соединяется с гемоглобином, кровяные клетки уже не способны выполнять свои функции по транспортировке по организму кислорода. При больших поступлениях в организм ударного газа человек умир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-5031720"/>
            <a:ext cx="287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84360" y="333000"/>
            <a:ext cx="44146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 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табачном дыму находится газообразный деготь, который при охлаждении переходит в жидкое состояние , т.е. конденсируется. При этом он оседает на пальцах рук, зубах, стенках воздухоностных путей, легких, попадает в желуд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17441" b="52777"/>
          <a:stretch/>
        </p:blipFill>
        <p:spPr>
          <a:xfrm>
            <a:off x="684360" y="1989000"/>
            <a:ext cx="3490920" cy="2916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рокуренный голос и плохой слух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огда про человека говорят, что у него "прокуренный голос", тем самым уже предполагают, что причина этой особенности - курение. Действительно, хроническое раздражение голосовых связок табачным дымом ведет к тому, что голосовая щель сужается, голос утрачивает чистоту и звучность, становится хриплым, меняется его тембр, создающий "окраску"  произносимым слова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и проверке слуха новейшей электронной аппаратурой выяснилось, что у курильщиков слух значительно хуже. И вот почему: под действием никотина барабанная перепонка утолщается и втягивается внутрь, подвижность слуховых косточек уменьшается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А знаете ли вы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ли пиявка присосется к коже страстного курильщика, она тотчас отваливается и в судорогах умирает от отравл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   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ли в помещении много табачного дыма, в аквариумах с искусственным продуванием воздуха наблюдались случаи отравления рыбок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   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ядовитые свойства никотина используются в сельском хозяйстве: он один из главных компонентов многих препаратов для защиты растений от вредител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   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абораторные анализы показывают, что в 1 литре молока курящей матери может содержаться до 0,5 мг никотин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   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мертельная же доза никотина для младенца первых месяцев жизни – 1 м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803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Курильщик! Сам себе ты враг,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Себе ты покупаешь рак,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Иль что другое в том же роде.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Ставь крест на этой глупой моде!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47280" y="5445000"/>
            <a:ext cx="667404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найт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урение – медленное самоубийство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-2125080"/>
            <a:ext cx="69840" cy="50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836280"/>
            <a:ext cx="75438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уемая литератур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урнал «Физика в школе», №2. 19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кольнику о вреде никотина и алкоголя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годинский В.Н. - М.: Просвещение, 198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ормационная поддерж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anti-smoking.r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smoke-not.narod.r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ne-kurim.r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фотоснимки из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yandex.r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692280"/>
            <a:ext cx="8137440" cy="53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торая Мировая Вой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унесла жизни более 50 млн. челове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урение сигар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ежегодно убивает 6 млн. человек,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становится причиной 30% смер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  раковых заболеваний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урение, согласно статистике, является гораздо более серьёзным злом по сравнению с несчастными случаями, вроде авиа- или автокатастро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496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За последние 20 лет количество курильщиков в стране увеличилось на 600 тысяч человек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560" y="1981080"/>
            <a:ext cx="778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возрасте 15-19 ле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урят 40% юношей и 7% девуше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 этом в день они выкуривают в среднем 12 сигарет – юноши и 7 сигарет – девушки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лучается, что в России куря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олее 3 миллионов подростков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,5 миллиона юношей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,5 миллиона девуше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игареты и зубы.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44146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мпература табачного дыма на 35-40 С выше температуры воздуха, поступающая в рот при курении, что вызывает во рту резкий перепад температур. Во время курения одной сигареты происходит 15-20  таких перепадов, что плохо отражается на состоянии зубной эмали, она трескается. Вот почему зубы начинают разрушаться раньше и быстрее у курящих людей, чем у некурящи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915080" y="2847960"/>
            <a:ext cx="3695400" cy="2379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Общая масса окурков на Земле за год составляет 2 520 000 т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132000" y="198108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урильщики ежегодно «выкуривают» т.е. выбрасывают в атмосферу 720 т синильной кислот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84 000 т аммиак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8000 т никотин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00 000 т дегт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более 550 т угарного газ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3024360" cy="2664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99640" y="-3741480"/>
            <a:ext cx="71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268280"/>
            <a:ext cx="38656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щий показатель токсичности табачного дыма в 4,5 раза превышает токсичность выхлопных газов автомобиля. Выкуривание только одной сигареты по действию на организм приблизительно равно нахождению вблизи крупной автомагистрали на протяжении 16 час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724360" y="4005360"/>
            <a:ext cx="2953080" cy="2520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724360" y="1052640"/>
            <a:ext cx="2953080" cy="2538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омни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сли ты посильный курильщик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бывании некурящего в течение    1 ч. в закрытом накуренном помещении равносильно тому, что он выкурил 4 сигаре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Никотин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2560" y="3141720"/>
            <a:ext cx="772812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  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пах табачному дыму придает никотин, являющийся одним из сильных растительных ядов, который действует не только на низших, но и высших животн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 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лагодаря диффузии и конвективным потокам окружающего воздуха, табачный дым хорошо смешивается с воздухом и проникает всюду: в одежду, волосы. Легкие. Живые ткани, кровь, лимфу, мозг, рассеивается в помещ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3695760" cy="2454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258920" y="18900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Молекула никот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Зрение курильщик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48000" y="1916280"/>
            <a:ext cx="535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лаза длительно и много курящего человека часто слезятся, краснеют, края век распухают.  Никотин, действуя на зрительный нерв,  вызывает его хроническое воспаление,  вследствие чего снижается острота зрения.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 курении сужаются сосуды,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зменяется сетчатка глаза,  что ведет к частичной потере светоощущения, это, в свою очередь, снижает быстроту реакции человека в среднем на 24%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8360" y="4494240"/>
            <a:ext cx="2590920" cy="1950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8360" y="2131920"/>
            <a:ext cx="2590920" cy="1938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5:06:32Z</dcterms:created>
  <dc:creator>Вова</dc:creator>
  <dc:description/>
  <dc:language>en-US</dc:language>
  <cp:lastModifiedBy>Вова</cp:lastModifiedBy>
  <dcterms:modified xsi:type="dcterms:W3CDTF">2010-01-30T03:54:58Z</dcterms:modified>
  <cp:revision>8</cp:revision>
  <dc:subject/>
  <dc:title>Проект</dc:title>
</cp:coreProperties>
</file>